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7EB-6BE1-47F2-A659-925E1088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4FE-8FEE-42CE-88DF-D24EE9D6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BF2-7F1B-41BB-B4B1-7D8BA4D1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504-9C1E-4504-9085-0A5A8C11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CE3-B5AF-4E37-A425-695A2B3B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0D2-460B-4B86-BE65-E7765332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4D7-9D10-4481-B9D3-7145516D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786-F182-4643-A142-276825FD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BDA-ECEB-4E96-A203-A6816530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2F7-8947-4043-819B-125DD52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F7B-04FC-44A8-8E10-DBD7A272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9F8-5F08-40B8-A7F0-FA2F4859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EE7F-5F0F-41D7-A2AE-DD0CAF99F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-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(-3)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63840" y="1776240"/>
            <a:ext cx="11736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6846" y="4961"/>
                </a:moveTo>
                <a:cubicBezTo>
                  <a:pt x="6959" y="4945"/>
                  <a:pt x="7010" y="4942"/>
                  <a:pt x="7119" y="4961"/>
                </a:cubicBezTo>
                <a:cubicBezTo>
                  <a:pt x="7144" y="4961"/>
                  <a:pt x="7152" y="4961"/>
                  <a:pt x="7169" y="4961"/>
                </a:cubicBezTo>
              </a:path>
              <a:path w="324" h="299">
                <a:moveTo>
                  <a:pt x="6871" y="5234"/>
                </a:moveTo>
                <a:cubicBezTo>
                  <a:pt x="6954" y="5234"/>
                  <a:pt x="7036" y="5234"/>
                  <a:pt x="7119" y="523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38320" y="1670040"/>
            <a:ext cx="9720" cy="250920"/>
          </a:xfrm>
          <a:custGeom>
            <a:avLst/>
            <a:gdLst/>
            <a:ahLst/>
            <a:rect l="l" t="t" r="r" b="b"/>
            <a:pathLst>
              <a:path w="26" h="696">
                <a:moveTo>
                  <a:pt x="8161" y="4638"/>
                </a:moveTo>
                <a:cubicBezTo>
                  <a:pt x="8190" y="4843"/>
                  <a:pt x="8172" y="5027"/>
                  <a:pt x="8161" y="5234"/>
                </a:cubicBezTo>
                <a:cubicBezTo>
                  <a:pt x="8161" y="5267"/>
                  <a:pt x="8161" y="5300"/>
                  <a:pt x="8161" y="533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4240" y="1670040"/>
            <a:ext cx="108000" cy="268200"/>
          </a:xfrm>
          <a:custGeom>
            <a:avLst/>
            <a:gdLst/>
            <a:ahLst/>
            <a:rect l="l" t="t" r="r" b="b"/>
            <a:pathLst>
              <a:path w="299" h="746">
                <a:moveTo>
                  <a:pt x="8756" y="4638"/>
                </a:moveTo>
                <a:cubicBezTo>
                  <a:pt x="8627" y="4658"/>
                  <a:pt x="8577" y="4693"/>
                  <a:pt x="8483" y="4787"/>
                </a:cubicBezTo>
                <a:cubicBezTo>
                  <a:pt x="8590" y="4933"/>
                  <a:pt x="8761" y="4983"/>
                  <a:pt x="8756" y="5184"/>
                </a:cubicBezTo>
                <a:cubicBezTo>
                  <a:pt x="8733" y="5296"/>
                  <a:pt x="8732" y="5327"/>
                  <a:pt x="8682" y="5383"/>
                </a:cubicBezTo>
                <a:cubicBezTo>
                  <a:pt x="8577" y="5304"/>
                  <a:pt x="8518" y="5213"/>
                  <a:pt x="8607" y="5085"/>
                </a:cubicBezTo>
                <a:cubicBezTo>
                  <a:pt x="8674" y="4989"/>
                  <a:pt x="8805" y="4903"/>
                  <a:pt x="8781" y="4762"/>
                </a:cubicBezTo>
                <a:cubicBezTo>
                  <a:pt x="8762" y="4705"/>
                  <a:pt x="8771" y="4680"/>
                  <a:pt x="8731" y="468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2920" y="3537000"/>
            <a:ext cx="13320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6896" y="9897"/>
                </a:moveTo>
                <a:cubicBezTo>
                  <a:pt x="6920" y="9826"/>
                  <a:pt x="7078" y="9857"/>
                  <a:pt x="7144" y="9847"/>
                </a:cubicBezTo>
                <a:cubicBezTo>
                  <a:pt x="7218" y="9829"/>
                  <a:pt x="7225" y="9821"/>
                  <a:pt x="7268" y="9823"/>
                </a:cubicBezTo>
              </a:path>
              <a:path w="373" h="274">
                <a:moveTo>
                  <a:pt x="6896" y="10096"/>
                </a:moveTo>
                <a:cubicBezTo>
                  <a:pt x="6996" y="10083"/>
                  <a:pt x="7093" y="10053"/>
                  <a:pt x="7193" y="10046"/>
                </a:cubicBezTo>
                <a:cubicBezTo>
                  <a:pt x="7201" y="10046"/>
                  <a:pt x="7210" y="10046"/>
                  <a:pt x="7218" y="1004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51120" y="3419640"/>
            <a:ext cx="554040" cy="287280"/>
          </a:xfrm>
          <a:custGeom>
            <a:avLst/>
            <a:gdLst/>
            <a:ahLst/>
            <a:rect l="l" t="t" r="r" b="b"/>
            <a:pathLst>
              <a:path w="1539" h="795">
                <a:moveTo>
                  <a:pt x="8508" y="9798"/>
                </a:moveTo>
                <a:cubicBezTo>
                  <a:pt x="8553" y="9648"/>
                  <a:pt x="8520" y="9602"/>
                  <a:pt x="8409" y="9500"/>
                </a:cubicBezTo>
                <a:cubicBezTo>
                  <a:pt x="8216" y="9603"/>
                  <a:pt x="8148" y="9703"/>
                  <a:pt x="8111" y="9922"/>
                </a:cubicBezTo>
                <a:cubicBezTo>
                  <a:pt x="8313" y="9922"/>
                  <a:pt x="8341" y="9875"/>
                  <a:pt x="8483" y="9723"/>
                </a:cubicBezTo>
                <a:cubicBezTo>
                  <a:pt x="8491" y="9715"/>
                  <a:pt x="8500" y="9707"/>
                  <a:pt x="8508" y="9699"/>
                </a:cubicBezTo>
                <a:cubicBezTo>
                  <a:pt x="8508" y="9901"/>
                  <a:pt x="8507" y="10094"/>
                  <a:pt x="8483" y="10294"/>
                </a:cubicBezTo>
              </a:path>
              <a:path w="1539" h="795">
                <a:moveTo>
                  <a:pt x="8806" y="9649"/>
                </a:moveTo>
                <a:cubicBezTo>
                  <a:pt x="8784" y="9799"/>
                  <a:pt x="8755" y="9891"/>
                  <a:pt x="8781" y="10046"/>
                </a:cubicBezTo>
                <a:cubicBezTo>
                  <a:pt x="8798" y="10149"/>
                  <a:pt x="8818" y="10335"/>
                  <a:pt x="8979" y="10269"/>
                </a:cubicBezTo>
                <a:cubicBezTo>
                  <a:pt x="9052" y="10239"/>
                  <a:pt x="9224" y="10099"/>
                  <a:pt x="9178" y="9996"/>
                </a:cubicBezTo>
                <a:cubicBezTo>
                  <a:pt x="9170" y="9996"/>
                  <a:pt x="9161" y="9996"/>
                  <a:pt x="9153" y="9996"/>
                </a:cubicBezTo>
                <a:cubicBezTo>
                  <a:pt x="9031" y="10017"/>
                  <a:pt x="8930" y="10068"/>
                  <a:pt x="8930" y="10220"/>
                </a:cubicBezTo>
                <a:cubicBezTo>
                  <a:pt x="8951" y="10263"/>
                  <a:pt x="8955" y="10275"/>
                  <a:pt x="8979" y="10294"/>
                </a:cubicBezTo>
              </a:path>
              <a:path w="1539" h="795">
                <a:moveTo>
                  <a:pt x="7640" y="9649"/>
                </a:moveTo>
                <a:cubicBezTo>
                  <a:pt x="7714" y="9637"/>
                  <a:pt x="7787" y="9610"/>
                  <a:pt x="7863" y="959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62120" y="5313240"/>
            <a:ext cx="1177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7119" y="14833"/>
                </a:moveTo>
                <a:cubicBezTo>
                  <a:pt x="7208" y="14815"/>
                  <a:pt x="7302" y="14812"/>
                  <a:pt x="7392" y="14784"/>
                </a:cubicBezTo>
                <a:cubicBezTo>
                  <a:pt x="7439" y="14760"/>
                  <a:pt x="7456" y="14750"/>
                  <a:pt x="7441" y="14808"/>
                </a:cubicBezTo>
              </a:path>
              <a:path w="323" h="274">
                <a:moveTo>
                  <a:pt x="7193" y="15032"/>
                </a:moveTo>
                <a:cubicBezTo>
                  <a:pt x="7265" y="15032"/>
                  <a:pt x="7323" y="15013"/>
                  <a:pt x="7392" y="15007"/>
                </a:cubicBezTo>
                <a:cubicBezTo>
                  <a:pt x="7400" y="15007"/>
                  <a:pt x="7409" y="15007"/>
                  <a:pt x="7417" y="1500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4960" y="5276880"/>
            <a:ext cx="9036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7987" y="14709"/>
                </a:moveTo>
                <a:cubicBezTo>
                  <a:pt x="8007" y="14769"/>
                  <a:pt x="8148" y="14674"/>
                  <a:pt x="8210" y="14660"/>
                </a:cubicBezTo>
                <a:cubicBezTo>
                  <a:pt x="8218" y="14660"/>
                  <a:pt x="8227" y="14660"/>
                  <a:pt x="8235" y="1466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43160" y="5180040"/>
            <a:ext cx="536760" cy="276120"/>
          </a:xfrm>
          <a:custGeom>
            <a:avLst/>
            <a:gdLst/>
            <a:ahLst/>
            <a:rect l="l" t="t" r="r" b="b"/>
            <a:pathLst>
              <a:path w="1490" h="770">
                <a:moveTo>
                  <a:pt x="8756" y="14585"/>
                </a:moveTo>
                <a:cubicBezTo>
                  <a:pt x="8756" y="14765"/>
                  <a:pt x="8714" y="14985"/>
                  <a:pt x="8731" y="15156"/>
                </a:cubicBezTo>
                <a:cubicBezTo>
                  <a:pt x="8739" y="15156"/>
                  <a:pt x="8748" y="15156"/>
                  <a:pt x="8756" y="15156"/>
                </a:cubicBezTo>
              </a:path>
              <a:path w="1490" h="770">
                <a:moveTo>
                  <a:pt x="9128" y="14560"/>
                </a:moveTo>
                <a:cubicBezTo>
                  <a:pt x="9216" y="14498"/>
                  <a:pt x="9248" y="14499"/>
                  <a:pt x="9351" y="14486"/>
                </a:cubicBezTo>
                <a:cubicBezTo>
                  <a:pt x="9405" y="14612"/>
                  <a:pt x="9346" y="14688"/>
                  <a:pt x="9227" y="14759"/>
                </a:cubicBezTo>
                <a:cubicBezTo>
                  <a:pt x="9219" y="14759"/>
                  <a:pt x="9211" y="14759"/>
                  <a:pt x="9203" y="14759"/>
                </a:cubicBezTo>
                <a:cubicBezTo>
                  <a:pt x="9310" y="14741"/>
                  <a:pt x="9428" y="14730"/>
                  <a:pt x="9451" y="14883"/>
                </a:cubicBezTo>
                <a:cubicBezTo>
                  <a:pt x="9475" y="15043"/>
                  <a:pt x="9206" y="15177"/>
                  <a:pt x="9079" y="15106"/>
                </a:cubicBezTo>
                <a:cubicBezTo>
                  <a:pt x="9071" y="15081"/>
                  <a:pt x="9062" y="15057"/>
                  <a:pt x="9054" y="15032"/>
                </a:cubicBezTo>
              </a:path>
              <a:path w="1490" h="770">
                <a:moveTo>
                  <a:pt x="10021" y="14387"/>
                </a:moveTo>
                <a:cubicBezTo>
                  <a:pt x="9933" y="14454"/>
                  <a:pt x="9781" y="14405"/>
                  <a:pt x="9748" y="14511"/>
                </a:cubicBezTo>
                <a:cubicBezTo>
                  <a:pt x="9748" y="14577"/>
                  <a:pt x="9748" y="14610"/>
                  <a:pt x="9748" y="14660"/>
                </a:cubicBezTo>
                <a:cubicBezTo>
                  <a:pt x="9835" y="14660"/>
                  <a:pt x="9911" y="14618"/>
                  <a:pt x="9996" y="14610"/>
                </a:cubicBezTo>
                <a:cubicBezTo>
                  <a:pt x="10168" y="14593"/>
                  <a:pt x="10251" y="14697"/>
                  <a:pt x="10195" y="14858"/>
                </a:cubicBezTo>
                <a:cubicBezTo>
                  <a:pt x="10139" y="15020"/>
                  <a:pt x="10027" y="14983"/>
                  <a:pt x="9897" y="14957"/>
                </a:cubicBezTo>
                <a:cubicBezTo>
                  <a:pt x="9889" y="14957"/>
                  <a:pt x="9880" y="14957"/>
                  <a:pt x="9872" y="1495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2920" y="4822920"/>
            <a:ext cx="1251000" cy="338040"/>
          </a:xfrm>
          <a:custGeom>
            <a:avLst/>
            <a:gdLst/>
            <a:ahLst/>
            <a:rect l="l" t="t" r="r" b="b"/>
            <a:pathLst>
              <a:path w="3474" h="943">
                <a:moveTo>
                  <a:pt x="3671" y="14337"/>
                </a:moveTo>
                <a:cubicBezTo>
                  <a:pt x="3664" y="14261"/>
                  <a:pt x="3654" y="14221"/>
                  <a:pt x="3671" y="14188"/>
                </a:cubicBezTo>
                <a:cubicBezTo>
                  <a:pt x="3696" y="14138"/>
                  <a:pt x="3778" y="14142"/>
                  <a:pt x="3845" y="14139"/>
                </a:cubicBezTo>
                <a:cubicBezTo>
                  <a:pt x="3964" y="14134"/>
                  <a:pt x="4077" y="14129"/>
                  <a:pt x="4192" y="14114"/>
                </a:cubicBezTo>
                <a:cubicBezTo>
                  <a:pt x="4248" y="14107"/>
                  <a:pt x="4267" y="14101"/>
                  <a:pt x="4316" y="14089"/>
                </a:cubicBezTo>
                <a:cubicBezTo>
                  <a:pt x="4356" y="14116"/>
                  <a:pt x="4363" y="14198"/>
                  <a:pt x="4366" y="14263"/>
                </a:cubicBezTo>
                <a:cubicBezTo>
                  <a:pt x="4366" y="14304"/>
                  <a:pt x="4366" y="14312"/>
                  <a:pt x="4366" y="14337"/>
                </a:cubicBezTo>
              </a:path>
              <a:path w="3474" h="943">
                <a:moveTo>
                  <a:pt x="3919" y="13791"/>
                </a:moveTo>
                <a:cubicBezTo>
                  <a:pt x="3919" y="13885"/>
                  <a:pt x="3940" y="13906"/>
                  <a:pt x="3894" y="13940"/>
                </a:cubicBezTo>
              </a:path>
              <a:path w="3474" h="943">
                <a:moveTo>
                  <a:pt x="4440" y="13469"/>
                </a:moveTo>
                <a:cubicBezTo>
                  <a:pt x="4380" y="13479"/>
                  <a:pt x="4329" y="13494"/>
                  <a:pt x="4266" y="13494"/>
                </a:cubicBezTo>
                <a:cubicBezTo>
                  <a:pt x="4230" y="13494"/>
                  <a:pt x="4204" y="13601"/>
                  <a:pt x="4192" y="13643"/>
                </a:cubicBezTo>
                <a:cubicBezTo>
                  <a:pt x="4192" y="13667"/>
                  <a:pt x="4192" y="13676"/>
                  <a:pt x="4192" y="13692"/>
                </a:cubicBezTo>
                <a:cubicBezTo>
                  <a:pt x="4271" y="13692"/>
                  <a:pt x="4331" y="13653"/>
                  <a:pt x="4415" y="13667"/>
                </a:cubicBezTo>
                <a:cubicBezTo>
                  <a:pt x="4530" y="13686"/>
                  <a:pt x="4495" y="13875"/>
                  <a:pt x="4415" y="13915"/>
                </a:cubicBezTo>
                <a:cubicBezTo>
                  <a:pt x="4324" y="13915"/>
                  <a:pt x="4283" y="13915"/>
                  <a:pt x="4217" y="13915"/>
                </a:cubicBezTo>
              </a:path>
              <a:path w="3474" h="943">
                <a:moveTo>
                  <a:pt x="3944" y="13618"/>
                </a:moveTo>
                <a:cubicBezTo>
                  <a:pt x="3929" y="13715"/>
                  <a:pt x="3919" y="13793"/>
                  <a:pt x="3919" y="13891"/>
                </a:cubicBezTo>
              </a:path>
              <a:path w="3474" h="943">
                <a:moveTo>
                  <a:pt x="4936" y="13816"/>
                </a:moveTo>
                <a:cubicBezTo>
                  <a:pt x="5071" y="13816"/>
                  <a:pt x="5197" y="13838"/>
                  <a:pt x="5333" y="13841"/>
                </a:cubicBezTo>
                <a:cubicBezTo>
                  <a:pt x="5457" y="13843"/>
                  <a:pt x="5581" y="13841"/>
                  <a:pt x="5705" y="13841"/>
                </a:cubicBezTo>
                <a:cubicBezTo>
                  <a:pt x="5743" y="13942"/>
                  <a:pt x="5730" y="14071"/>
                  <a:pt x="5730" y="14188"/>
                </a:cubicBezTo>
                <a:cubicBezTo>
                  <a:pt x="5730" y="14196"/>
                  <a:pt x="5730" y="14205"/>
                  <a:pt x="5730" y="14213"/>
                </a:cubicBezTo>
              </a:path>
              <a:path w="3474" h="943">
                <a:moveTo>
                  <a:pt x="6102" y="13543"/>
                </a:moveTo>
                <a:cubicBezTo>
                  <a:pt x="6102" y="13443"/>
                  <a:pt x="6071" y="13692"/>
                  <a:pt x="6052" y="13791"/>
                </a:cubicBezTo>
                <a:cubicBezTo>
                  <a:pt x="6034" y="13882"/>
                  <a:pt x="6026" y="13889"/>
                  <a:pt x="6028" y="13940"/>
                </a:cubicBezTo>
              </a:path>
              <a:path w="3474" h="943">
                <a:moveTo>
                  <a:pt x="6424" y="13494"/>
                </a:moveTo>
                <a:cubicBezTo>
                  <a:pt x="6458" y="13437"/>
                  <a:pt x="6484" y="13433"/>
                  <a:pt x="6548" y="13419"/>
                </a:cubicBezTo>
                <a:cubicBezTo>
                  <a:pt x="6604" y="13475"/>
                  <a:pt x="6625" y="13566"/>
                  <a:pt x="6548" y="13643"/>
                </a:cubicBezTo>
                <a:cubicBezTo>
                  <a:pt x="6505" y="13664"/>
                  <a:pt x="6484" y="13677"/>
                  <a:pt x="6524" y="13643"/>
                </a:cubicBezTo>
                <a:cubicBezTo>
                  <a:pt x="6621" y="13643"/>
                  <a:pt x="6676" y="13635"/>
                  <a:pt x="6672" y="13767"/>
                </a:cubicBezTo>
                <a:cubicBezTo>
                  <a:pt x="6667" y="13920"/>
                  <a:pt x="6534" y="13915"/>
                  <a:pt x="6424" y="13915"/>
                </a:cubicBezTo>
                <a:cubicBezTo>
                  <a:pt x="6416" y="13915"/>
                  <a:pt x="6408" y="13915"/>
                  <a:pt x="6400" y="13915"/>
                </a:cubicBezTo>
              </a:path>
              <a:path w="3474" h="943">
                <a:moveTo>
                  <a:pt x="6945" y="13419"/>
                </a:moveTo>
                <a:cubicBezTo>
                  <a:pt x="6928" y="13367"/>
                  <a:pt x="6894" y="13407"/>
                  <a:pt x="6846" y="13419"/>
                </a:cubicBezTo>
                <a:cubicBezTo>
                  <a:pt x="6790" y="13432"/>
                  <a:pt x="6821" y="13533"/>
                  <a:pt x="6821" y="13593"/>
                </a:cubicBezTo>
                <a:cubicBezTo>
                  <a:pt x="6821" y="13601"/>
                  <a:pt x="6821" y="13610"/>
                  <a:pt x="6821" y="13618"/>
                </a:cubicBezTo>
                <a:cubicBezTo>
                  <a:pt x="6858" y="13593"/>
                  <a:pt x="6968" y="13517"/>
                  <a:pt x="7020" y="13543"/>
                </a:cubicBezTo>
                <a:cubicBezTo>
                  <a:pt x="7083" y="13575"/>
                  <a:pt x="7150" y="13686"/>
                  <a:pt x="7094" y="13742"/>
                </a:cubicBezTo>
                <a:cubicBezTo>
                  <a:pt x="7040" y="13796"/>
                  <a:pt x="6969" y="13816"/>
                  <a:pt x="6896" y="1381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93920" y="6715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870" y="18653"/>
                </a:moveTo>
                <a:lnTo>
                  <a:pt x="3870" y="18653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Rules: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0b73"/>
                </a:solidFill>
                <a:latin typeface="Kristen ITC"/>
              </a:rPr>
              <a:t>Same Signs:  Positiv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0b73"/>
                </a:solidFill>
                <a:latin typeface="Kristen ITC"/>
              </a:rPr>
              <a:t>Different Signs: Negativ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511"/>
                </a:solidFill>
                <a:latin typeface="Kristen ITC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438280" y="3733920"/>
          <a:ext cx="11797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733920"/>
                    <a:ext cx="1179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118200" y="3886200"/>
          <a:ext cx="133668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8200" y="3886200"/>
                    <a:ext cx="1336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598920" y="3483000"/>
            <a:ext cx="965160" cy="785880"/>
          </a:xfrm>
          <a:custGeom>
            <a:avLst/>
            <a:gdLst/>
            <a:ahLst/>
            <a:rect l="l" t="t" r="r" b="b"/>
            <a:pathLst>
              <a:path w="2680" h="2184">
                <a:moveTo>
                  <a:pt x="11361" y="11063"/>
                </a:moveTo>
                <a:cubicBezTo>
                  <a:pt x="11342" y="11139"/>
                  <a:pt x="11317" y="11087"/>
                  <a:pt x="11385" y="11038"/>
                </a:cubicBezTo>
                <a:cubicBezTo>
                  <a:pt x="11410" y="11021"/>
                  <a:pt x="11435" y="11005"/>
                  <a:pt x="11460" y="10988"/>
                </a:cubicBezTo>
                <a:cubicBezTo>
                  <a:pt x="11527" y="11274"/>
                  <a:pt x="11488" y="11430"/>
                  <a:pt x="11261" y="11633"/>
                </a:cubicBezTo>
                <a:cubicBezTo>
                  <a:pt x="11158" y="11695"/>
                  <a:pt x="11135" y="11738"/>
                  <a:pt x="11088" y="11658"/>
                </a:cubicBezTo>
                <a:cubicBezTo>
                  <a:pt x="11140" y="11538"/>
                  <a:pt x="11283" y="11315"/>
                  <a:pt x="11410" y="11534"/>
                </a:cubicBezTo>
                <a:cubicBezTo>
                  <a:pt x="11451" y="11604"/>
                  <a:pt x="11377" y="11620"/>
                  <a:pt x="11435" y="11658"/>
                </a:cubicBezTo>
              </a:path>
              <a:path w="2680" h="2184">
                <a:moveTo>
                  <a:pt x="12055" y="11013"/>
                </a:moveTo>
                <a:cubicBezTo>
                  <a:pt x="11916" y="10953"/>
                  <a:pt x="11825" y="11009"/>
                  <a:pt x="11708" y="11088"/>
                </a:cubicBezTo>
                <a:cubicBezTo>
                  <a:pt x="11768" y="11243"/>
                  <a:pt x="12020" y="11301"/>
                  <a:pt x="12030" y="11485"/>
                </a:cubicBezTo>
                <a:cubicBezTo>
                  <a:pt x="11984" y="11578"/>
                  <a:pt x="11974" y="11607"/>
                  <a:pt x="11906" y="11633"/>
                </a:cubicBezTo>
                <a:cubicBezTo>
                  <a:pt x="11711" y="11422"/>
                  <a:pt x="11899" y="11389"/>
                  <a:pt x="12055" y="11187"/>
                </a:cubicBezTo>
                <a:cubicBezTo>
                  <a:pt x="12180" y="11024"/>
                  <a:pt x="12162" y="11006"/>
                  <a:pt x="11981" y="10988"/>
                </a:cubicBezTo>
                <a:cubicBezTo>
                  <a:pt x="11973" y="10988"/>
                  <a:pt x="11964" y="10988"/>
                  <a:pt x="11956" y="10988"/>
                </a:cubicBezTo>
              </a:path>
              <a:path w="2680" h="2184">
                <a:moveTo>
                  <a:pt x="10889" y="11857"/>
                </a:moveTo>
                <a:cubicBezTo>
                  <a:pt x="10905" y="11689"/>
                  <a:pt x="10892" y="11535"/>
                  <a:pt x="10889" y="11361"/>
                </a:cubicBezTo>
                <a:cubicBezTo>
                  <a:pt x="10887" y="11217"/>
                  <a:pt x="10891" y="11052"/>
                  <a:pt x="10939" y="10914"/>
                </a:cubicBezTo>
                <a:cubicBezTo>
                  <a:pt x="10950" y="10883"/>
                  <a:pt x="10993" y="10858"/>
                  <a:pt x="11038" y="10840"/>
                </a:cubicBezTo>
                <a:cubicBezTo>
                  <a:pt x="11077" y="10825"/>
                  <a:pt x="11118" y="10816"/>
                  <a:pt x="11162" y="10815"/>
                </a:cubicBezTo>
                <a:cubicBezTo>
                  <a:pt x="11460" y="10806"/>
                  <a:pt x="11757" y="10793"/>
                  <a:pt x="12055" y="10790"/>
                </a:cubicBezTo>
                <a:cubicBezTo>
                  <a:pt x="12263" y="10788"/>
                  <a:pt x="12473" y="10806"/>
                  <a:pt x="12675" y="10765"/>
                </a:cubicBezTo>
              </a:path>
              <a:path w="2680" h="2184">
                <a:moveTo>
                  <a:pt x="10071" y="11063"/>
                </a:moveTo>
                <a:cubicBezTo>
                  <a:pt x="10148" y="11139"/>
                  <a:pt x="10032" y="11284"/>
                  <a:pt x="9996" y="11385"/>
                </a:cubicBezTo>
                <a:cubicBezTo>
                  <a:pt x="9996" y="11410"/>
                  <a:pt x="9996" y="11418"/>
                  <a:pt x="10021" y="11410"/>
                </a:cubicBezTo>
                <a:cubicBezTo>
                  <a:pt x="10088" y="11398"/>
                  <a:pt x="10228" y="11312"/>
                  <a:pt x="10294" y="11336"/>
                </a:cubicBezTo>
                <a:cubicBezTo>
                  <a:pt x="10302" y="11344"/>
                  <a:pt x="10311" y="11353"/>
                  <a:pt x="10319" y="11361"/>
                </a:cubicBezTo>
              </a:path>
              <a:path w="2680" h="2184">
                <a:moveTo>
                  <a:pt x="10319" y="10988"/>
                </a:moveTo>
                <a:cubicBezTo>
                  <a:pt x="10319" y="11208"/>
                  <a:pt x="10288" y="11415"/>
                  <a:pt x="10269" y="11633"/>
                </a:cubicBezTo>
                <a:cubicBezTo>
                  <a:pt x="10265" y="11675"/>
                  <a:pt x="10269" y="11750"/>
                  <a:pt x="10269" y="11708"/>
                </a:cubicBezTo>
              </a:path>
              <a:path w="2680" h="2184">
                <a:moveTo>
                  <a:pt x="11782" y="10145"/>
                </a:moveTo>
                <a:cubicBezTo>
                  <a:pt x="11806" y="10193"/>
                  <a:pt x="11814" y="10207"/>
                  <a:pt x="11807" y="10244"/>
                </a:cubicBezTo>
                <a:cubicBezTo>
                  <a:pt x="11782" y="10236"/>
                  <a:pt x="11694" y="10138"/>
                  <a:pt x="11733" y="10096"/>
                </a:cubicBezTo>
                <a:cubicBezTo>
                  <a:pt x="11801" y="10022"/>
                  <a:pt x="11947" y="10068"/>
                  <a:pt x="12030" y="10046"/>
                </a:cubicBezTo>
                <a:cubicBezTo>
                  <a:pt x="12090" y="10030"/>
                  <a:pt x="12093" y="9996"/>
                  <a:pt x="12154" y="9996"/>
                </a:cubicBezTo>
                <a:cubicBezTo>
                  <a:pt x="12077" y="10228"/>
                  <a:pt x="11970" y="10440"/>
                  <a:pt x="11881" y="10666"/>
                </a:cubicBezTo>
                <a:cubicBezTo>
                  <a:pt x="11881" y="10691"/>
                  <a:pt x="11881" y="10699"/>
                  <a:pt x="11881" y="10666"/>
                </a:cubicBezTo>
              </a:path>
              <a:path w="2680" h="2184">
                <a:moveTo>
                  <a:pt x="11212" y="10269"/>
                </a:moveTo>
                <a:cubicBezTo>
                  <a:pt x="11212" y="10294"/>
                  <a:pt x="11212" y="10302"/>
                  <a:pt x="11212" y="10319"/>
                </a:cubicBezTo>
                <a:cubicBezTo>
                  <a:pt x="11311" y="10319"/>
                  <a:pt x="11410" y="10319"/>
                  <a:pt x="11509" y="10319"/>
                </a:cubicBezTo>
              </a:path>
              <a:path w="2680" h="2184">
                <a:moveTo>
                  <a:pt x="11137" y="10641"/>
                </a:moveTo>
                <a:cubicBezTo>
                  <a:pt x="11182" y="10732"/>
                  <a:pt x="11247" y="10794"/>
                  <a:pt x="11361" y="10815"/>
                </a:cubicBezTo>
                <a:cubicBezTo>
                  <a:pt x="11486" y="10838"/>
                  <a:pt x="11610" y="10794"/>
                  <a:pt x="11733" y="10790"/>
                </a:cubicBezTo>
                <a:cubicBezTo>
                  <a:pt x="11846" y="10787"/>
                  <a:pt x="11945" y="10752"/>
                  <a:pt x="12055" y="10740"/>
                </a:cubicBezTo>
                <a:cubicBezTo>
                  <a:pt x="12174" y="10727"/>
                  <a:pt x="12223" y="10729"/>
                  <a:pt x="12328" y="10666"/>
                </a:cubicBezTo>
                <a:cubicBezTo>
                  <a:pt x="12410" y="10617"/>
                  <a:pt x="12471" y="10596"/>
                  <a:pt x="12526" y="10517"/>
                </a:cubicBezTo>
                <a:cubicBezTo>
                  <a:pt x="12607" y="10400"/>
                  <a:pt x="12655" y="10255"/>
                  <a:pt x="12626" y="10120"/>
                </a:cubicBezTo>
                <a:cubicBezTo>
                  <a:pt x="12594" y="9975"/>
                  <a:pt x="12520" y="9906"/>
                  <a:pt x="12402" y="9823"/>
                </a:cubicBezTo>
                <a:cubicBezTo>
                  <a:pt x="12308" y="9757"/>
                  <a:pt x="12196" y="9688"/>
                  <a:pt x="12080" y="9674"/>
                </a:cubicBezTo>
                <a:cubicBezTo>
                  <a:pt x="11891" y="9651"/>
                  <a:pt x="11755" y="9704"/>
                  <a:pt x="11584" y="9773"/>
                </a:cubicBezTo>
                <a:cubicBezTo>
                  <a:pt x="11429" y="9836"/>
                  <a:pt x="11268" y="9915"/>
                  <a:pt x="11137" y="10021"/>
                </a:cubicBezTo>
                <a:cubicBezTo>
                  <a:pt x="11044" y="10096"/>
                  <a:pt x="11001" y="10194"/>
                  <a:pt x="10964" y="10294"/>
                </a:cubicBezTo>
                <a:cubicBezTo>
                  <a:pt x="10941" y="10356"/>
                  <a:pt x="10921" y="10423"/>
                  <a:pt x="10939" y="10492"/>
                </a:cubicBezTo>
                <a:cubicBezTo>
                  <a:pt x="10963" y="10583"/>
                  <a:pt x="11060" y="10613"/>
                  <a:pt x="11137" y="10641"/>
                </a:cubicBezTo>
                <a:cubicBezTo>
                  <a:pt x="11178" y="10656"/>
                  <a:pt x="11220" y="10675"/>
                  <a:pt x="11261" y="1069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643280"/>
            <a:ext cx="928440" cy="2000520"/>
          </a:xfrm>
          <a:custGeom>
            <a:avLst/>
            <a:gdLst/>
            <a:ahLst/>
            <a:rect l="l" t="t" r="r" b="b"/>
            <a:pathLst>
              <a:path w="2581" h="5558">
                <a:moveTo>
                  <a:pt x="13370" y="15180"/>
                </a:moveTo>
                <a:cubicBezTo>
                  <a:pt x="13370" y="15228"/>
                  <a:pt x="13366" y="15230"/>
                  <a:pt x="13345" y="15280"/>
                </a:cubicBezTo>
              </a:path>
              <a:path w="2581" h="5558">
                <a:moveTo>
                  <a:pt x="13171" y="14461"/>
                </a:moveTo>
                <a:cubicBezTo>
                  <a:pt x="13255" y="14425"/>
                  <a:pt x="13325" y="14415"/>
                  <a:pt x="13419" y="14412"/>
                </a:cubicBezTo>
                <a:cubicBezTo>
                  <a:pt x="13515" y="14409"/>
                  <a:pt x="13598" y="14396"/>
                  <a:pt x="13692" y="14387"/>
                </a:cubicBezTo>
                <a:cubicBezTo>
                  <a:pt x="13789" y="14377"/>
                  <a:pt x="13869" y="14341"/>
                  <a:pt x="13965" y="14337"/>
                </a:cubicBezTo>
                <a:cubicBezTo>
                  <a:pt x="14059" y="14333"/>
                  <a:pt x="14142" y="14312"/>
                  <a:pt x="14238" y="14312"/>
                </a:cubicBezTo>
                <a:cubicBezTo>
                  <a:pt x="14310" y="14312"/>
                  <a:pt x="14346" y="14294"/>
                  <a:pt x="14412" y="14288"/>
                </a:cubicBezTo>
                <a:cubicBezTo>
                  <a:pt x="14455" y="14284"/>
                  <a:pt x="14448" y="14301"/>
                  <a:pt x="14461" y="14263"/>
                </a:cubicBezTo>
              </a:path>
              <a:path w="2581" h="5558">
                <a:moveTo>
                  <a:pt x="13295" y="14238"/>
                </a:moveTo>
                <a:cubicBezTo>
                  <a:pt x="13275" y="14245"/>
                  <a:pt x="13228" y="14340"/>
                  <a:pt x="13271" y="14312"/>
                </a:cubicBezTo>
                <a:cubicBezTo>
                  <a:pt x="13311" y="14286"/>
                  <a:pt x="13382" y="14197"/>
                  <a:pt x="13295" y="14263"/>
                </a:cubicBezTo>
              </a:path>
              <a:path w="2581" h="5558">
                <a:moveTo>
                  <a:pt x="13816" y="14709"/>
                </a:moveTo>
                <a:cubicBezTo>
                  <a:pt x="13830" y="14777"/>
                  <a:pt x="13739" y="14943"/>
                  <a:pt x="13742" y="15056"/>
                </a:cubicBezTo>
                <a:cubicBezTo>
                  <a:pt x="13764" y="15145"/>
                  <a:pt x="13765" y="15170"/>
                  <a:pt x="13816" y="15205"/>
                </a:cubicBezTo>
                <a:cubicBezTo>
                  <a:pt x="13988" y="15162"/>
                  <a:pt x="14111" y="15049"/>
                  <a:pt x="14064" y="14833"/>
                </a:cubicBezTo>
                <a:cubicBezTo>
                  <a:pt x="14042" y="14731"/>
                  <a:pt x="13967" y="14723"/>
                  <a:pt x="13891" y="14709"/>
                </a:cubicBezTo>
              </a:path>
              <a:path w="2581" h="5558">
                <a:moveTo>
                  <a:pt x="13841" y="15329"/>
                </a:moveTo>
                <a:cubicBezTo>
                  <a:pt x="13841" y="15254"/>
                  <a:pt x="13848" y="15429"/>
                  <a:pt x="13841" y="15503"/>
                </a:cubicBezTo>
                <a:cubicBezTo>
                  <a:pt x="13822" y="15713"/>
                  <a:pt x="13791" y="15912"/>
                  <a:pt x="13791" y="16123"/>
                </a:cubicBezTo>
                <a:cubicBezTo>
                  <a:pt x="13791" y="16192"/>
                  <a:pt x="13767" y="16248"/>
                  <a:pt x="13767" y="16321"/>
                </a:cubicBezTo>
              </a:path>
              <a:path w="2581" h="5558">
                <a:moveTo>
                  <a:pt x="13519" y="16222"/>
                </a:moveTo>
                <a:cubicBezTo>
                  <a:pt x="13554" y="16231"/>
                  <a:pt x="13649" y="16375"/>
                  <a:pt x="13717" y="16421"/>
                </a:cubicBezTo>
                <a:cubicBezTo>
                  <a:pt x="13844" y="16506"/>
                  <a:pt x="13968" y="16271"/>
                  <a:pt x="14039" y="16197"/>
                </a:cubicBezTo>
                <a:cubicBezTo>
                  <a:pt x="14088" y="16147"/>
                  <a:pt x="14100" y="16164"/>
                  <a:pt x="14114" y="16123"/>
                </a:cubicBezTo>
              </a:path>
              <a:path w="2581" h="5558">
                <a:moveTo>
                  <a:pt x="13816" y="16669"/>
                </a:moveTo>
                <a:cubicBezTo>
                  <a:pt x="13810" y="16650"/>
                  <a:pt x="13779" y="16608"/>
                  <a:pt x="13742" y="16619"/>
                </a:cubicBezTo>
                <a:cubicBezTo>
                  <a:pt x="13633" y="16650"/>
                  <a:pt x="13646" y="16829"/>
                  <a:pt x="13643" y="16917"/>
                </a:cubicBezTo>
                <a:cubicBezTo>
                  <a:pt x="13641" y="16990"/>
                  <a:pt x="13645" y="17094"/>
                  <a:pt x="13742" y="17090"/>
                </a:cubicBezTo>
                <a:cubicBezTo>
                  <a:pt x="13896" y="17084"/>
                  <a:pt x="13953" y="16940"/>
                  <a:pt x="13965" y="16818"/>
                </a:cubicBezTo>
                <a:cubicBezTo>
                  <a:pt x="13974" y="16727"/>
                  <a:pt x="13968" y="16705"/>
                  <a:pt x="13891" y="16669"/>
                </a:cubicBezTo>
                <a:cubicBezTo>
                  <a:pt x="13806" y="16629"/>
                  <a:pt x="13808" y="16652"/>
                  <a:pt x="13742" y="16718"/>
                </a:cubicBezTo>
              </a:path>
              <a:path w="2581" h="5558">
                <a:moveTo>
                  <a:pt x="13742" y="13692"/>
                </a:moveTo>
                <a:cubicBezTo>
                  <a:pt x="13733" y="13729"/>
                  <a:pt x="13721" y="13738"/>
                  <a:pt x="13692" y="13767"/>
                </a:cubicBezTo>
                <a:cubicBezTo>
                  <a:pt x="13692" y="13771"/>
                  <a:pt x="13727" y="13719"/>
                  <a:pt x="13816" y="13692"/>
                </a:cubicBezTo>
                <a:cubicBezTo>
                  <a:pt x="13910" y="13663"/>
                  <a:pt x="14044" y="13687"/>
                  <a:pt x="13940" y="13816"/>
                </a:cubicBezTo>
                <a:cubicBezTo>
                  <a:pt x="13897" y="13838"/>
                  <a:pt x="13885" y="13842"/>
                  <a:pt x="13866" y="13866"/>
                </a:cubicBezTo>
                <a:cubicBezTo>
                  <a:pt x="13858" y="13866"/>
                  <a:pt x="13849" y="13866"/>
                  <a:pt x="13841" y="13866"/>
                </a:cubicBezTo>
                <a:cubicBezTo>
                  <a:pt x="13897" y="13877"/>
                  <a:pt x="14011" y="13900"/>
                  <a:pt x="13965" y="13990"/>
                </a:cubicBezTo>
                <a:cubicBezTo>
                  <a:pt x="13902" y="14113"/>
                  <a:pt x="13763" y="14186"/>
                  <a:pt x="13667" y="14114"/>
                </a:cubicBezTo>
              </a:path>
              <a:path w="2581" h="5558">
                <a:moveTo>
                  <a:pt x="13866" y="17462"/>
                </a:moveTo>
                <a:cubicBezTo>
                  <a:pt x="13902" y="17450"/>
                  <a:pt x="13908" y="17359"/>
                  <a:pt x="13891" y="17314"/>
                </a:cubicBezTo>
                <a:cubicBezTo>
                  <a:pt x="13859" y="17230"/>
                  <a:pt x="13754" y="17149"/>
                  <a:pt x="13692" y="17264"/>
                </a:cubicBezTo>
                <a:cubicBezTo>
                  <a:pt x="13655" y="17331"/>
                  <a:pt x="13654" y="17512"/>
                  <a:pt x="13791" y="17438"/>
                </a:cubicBezTo>
                <a:cubicBezTo>
                  <a:pt x="13816" y="17413"/>
                  <a:pt x="13841" y="17388"/>
                  <a:pt x="13866" y="17363"/>
                </a:cubicBezTo>
                <a:cubicBezTo>
                  <a:pt x="13874" y="17355"/>
                  <a:pt x="13883" y="17346"/>
                  <a:pt x="13891" y="17338"/>
                </a:cubicBezTo>
                <a:cubicBezTo>
                  <a:pt x="13905" y="17465"/>
                  <a:pt x="13915" y="17583"/>
                  <a:pt x="13915" y="17711"/>
                </a:cubicBezTo>
                <a:cubicBezTo>
                  <a:pt x="13915" y="17719"/>
                  <a:pt x="13915" y="17727"/>
                  <a:pt x="13915" y="17735"/>
                </a:cubicBezTo>
              </a:path>
              <a:path w="2581" h="5558">
                <a:moveTo>
                  <a:pt x="12973" y="17711"/>
                </a:moveTo>
                <a:cubicBezTo>
                  <a:pt x="13164" y="17711"/>
                  <a:pt x="13351" y="17688"/>
                  <a:pt x="13543" y="17686"/>
                </a:cubicBezTo>
                <a:cubicBezTo>
                  <a:pt x="13724" y="17684"/>
                  <a:pt x="13948" y="17711"/>
                  <a:pt x="14114" y="17661"/>
                </a:cubicBezTo>
                <a:cubicBezTo>
                  <a:pt x="14139" y="17661"/>
                  <a:pt x="14147" y="17661"/>
                  <a:pt x="14163" y="17661"/>
                </a:cubicBezTo>
              </a:path>
              <a:path w="2581" h="5558">
                <a:moveTo>
                  <a:pt x="14039" y="17884"/>
                </a:moveTo>
                <a:cubicBezTo>
                  <a:pt x="13982" y="17904"/>
                  <a:pt x="14017" y="18154"/>
                  <a:pt x="14015" y="18182"/>
                </a:cubicBezTo>
                <a:cubicBezTo>
                  <a:pt x="13994" y="18330"/>
                  <a:pt x="13985" y="18363"/>
                  <a:pt x="13990" y="18455"/>
                </a:cubicBezTo>
              </a:path>
              <a:path w="2581" h="5558">
                <a:moveTo>
                  <a:pt x="13568" y="13444"/>
                </a:moveTo>
                <a:lnTo>
                  <a:pt x="13568" y="13444"/>
                </a:lnTo>
              </a:path>
              <a:path w="2581" h="5558">
                <a:moveTo>
                  <a:pt x="13568" y="13444"/>
                </a:moveTo>
                <a:lnTo>
                  <a:pt x="13568" y="13444"/>
                </a:lnTo>
              </a:path>
              <a:path w="2581" h="5558">
                <a:moveTo>
                  <a:pt x="13618" y="13469"/>
                </a:moveTo>
                <a:cubicBezTo>
                  <a:pt x="13707" y="13469"/>
                  <a:pt x="13789" y="13467"/>
                  <a:pt x="13866" y="13444"/>
                </a:cubicBezTo>
                <a:cubicBezTo>
                  <a:pt x="13923" y="13427"/>
                  <a:pt x="13987" y="13437"/>
                  <a:pt x="14039" y="13419"/>
                </a:cubicBezTo>
                <a:cubicBezTo>
                  <a:pt x="14058" y="13413"/>
                  <a:pt x="14094" y="13419"/>
                  <a:pt x="14114" y="13419"/>
                </a:cubicBezTo>
                <a:cubicBezTo>
                  <a:pt x="14114" y="13395"/>
                  <a:pt x="14114" y="13387"/>
                  <a:pt x="14139" y="13395"/>
                </a:cubicBezTo>
              </a:path>
              <a:path w="2581" h="5558">
                <a:moveTo>
                  <a:pt x="12576" y="14610"/>
                </a:moveTo>
                <a:cubicBezTo>
                  <a:pt x="12599" y="14600"/>
                  <a:pt x="12640" y="14568"/>
                  <a:pt x="12700" y="14560"/>
                </a:cubicBezTo>
                <a:cubicBezTo>
                  <a:pt x="12814" y="14545"/>
                  <a:pt x="12912" y="14582"/>
                  <a:pt x="13022" y="14585"/>
                </a:cubicBezTo>
                <a:cubicBezTo>
                  <a:pt x="13096" y="14587"/>
                  <a:pt x="13155" y="14566"/>
                  <a:pt x="13221" y="14560"/>
                </a:cubicBezTo>
                <a:cubicBezTo>
                  <a:pt x="13323" y="14550"/>
                  <a:pt x="13417" y="14524"/>
                  <a:pt x="13519" y="14511"/>
                </a:cubicBezTo>
                <a:cubicBezTo>
                  <a:pt x="13644" y="14495"/>
                  <a:pt x="13766" y="14450"/>
                  <a:pt x="13891" y="14436"/>
                </a:cubicBezTo>
                <a:cubicBezTo>
                  <a:pt x="14021" y="14421"/>
                  <a:pt x="14116" y="14392"/>
                  <a:pt x="14238" y="14337"/>
                </a:cubicBezTo>
                <a:cubicBezTo>
                  <a:pt x="14362" y="14281"/>
                  <a:pt x="14453" y="14193"/>
                  <a:pt x="14560" y="14114"/>
                </a:cubicBezTo>
                <a:cubicBezTo>
                  <a:pt x="14679" y="14027"/>
                  <a:pt x="14740" y="13890"/>
                  <a:pt x="14759" y="13742"/>
                </a:cubicBezTo>
                <a:cubicBezTo>
                  <a:pt x="14776" y="13612"/>
                  <a:pt x="14737" y="13447"/>
                  <a:pt x="14709" y="13320"/>
                </a:cubicBezTo>
                <a:cubicBezTo>
                  <a:pt x="14676" y="13173"/>
                  <a:pt x="14644" y="13119"/>
                  <a:pt x="14536" y="13022"/>
                </a:cubicBezTo>
                <a:cubicBezTo>
                  <a:pt x="14433" y="12929"/>
                  <a:pt x="14326" y="12908"/>
                  <a:pt x="14188" y="12898"/>
                </a:cubicBezTo>
                <a:cubicBezTo>
                  <a:pt x="13963" y="12882"/>
                  <a:pt x="13713" y="12881"/>
                  <a:pt x="13494" y="12923"/>
                </a:cubicBezTo>
                <a:cubicBezTo>
                  <a:pt x="13342" y="12952"/>
                  <a:pt x="13190" y="12985"/>
                  <a:pt x="13047" y="13047"/>
                </a:cubicBezTo>
                <a:cubicBezTo>
                  <a:pt x="12905" y="13109"/>
                  <a:pt x="12777" y="13185"/>
                  <a:pt x="12650" y="13271"/>
                </a:cubicBezTo>
                <a:cubicBezTo>
                  <a:pt x="12547" y="13341"/>
                  <a:pt x="12466" y="13431"/>
                  <a:pt x="12378" y="13519"/>
                </a:cubicBezTo>
                <a:cubicBezTo>
                  <a:pt x="12279" y="13617"/>
                  <a:pt x="12244" y="13718"/>
                  <a:pt x="12204" y="13841"/>
                </a:cubicBezTo>
                <a:cubicBezTo>
                  <a:pt x="12173" y="13938"/>
                  <a:pt x="12167" y="14020"/>
                  <a:pt x="12204" y="14114"/>
                </a:cubicBezTo>
                <a:cubicBezTo>
                  <a:pt x="12235" y="14191"/>
                  <a:pt x="12314" y="14271"/>
                  <a:pt x="12378" y="14312"/>
                </a:cubicBezTo>
                <a:cubicBezTo>
                  <a:pt x="12439" y="14351"/>
                  <a:pt x="12522" y="14377"/>
                  <a:pt x="12576" y="14412"/>
                </a:cubicBezTo>
                <a:cubicBezTo>
                  <a:pt x="12607" y="14432"/>
                  <a:pt x="12634" y="14501"/>
                  <a:pt x="12650" y="14511"/>
                </a:cubicBezTo>
                <a:cubicBezTo>
                  <a:pt x="12680" y="14531"/>
                  <a:pt x="12727" y="14547"/>
                  <a:pt x="12750" y="14560"/>
                </a:cubicBezTo>
                <a:cubicBezTo>
                  <a:pt x="12790" y="14583"/>
                  <a:pt x="12823" y="14604"/>
                  <a:pt x="12874" y="14610"/>
                </a:cubicBezTo>
                <a:cubicBezTo>
                  <a:pt x="12922" y="14616"/>
                  <a:pt x="12974" y="14610"/>
                  <a:pt x="13022" y="1461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6040" y="4938840"/>
            <a:ext cx="803160" cy="1231920"/>
          </a:xfrm>
          <a:custGeom>
            <a:avLst/>
            <a:gdLst/>
            <a:ahLst/>
            <a:rect l="l" t="t" r="r" b="b"/>
            <a:pathLst>
              <a:path w="2234" h="3424">
                <a:moveTo>
                  <a:pt x="11633" y="15602"/>
                </a:moveTo>
                <a:cubicBezTo>
                  <a:pt x="11675" y="15518"/>
                  <a:pt x="11763" y="15238"/>
                  <a:pt x="11782" y="15131"/>
                </a:cubicBezTo>
                <a:cubicBezTo>
                  <a:pt x="11810" y="14973"/>
                  <a:pt x="11807" y="14748"/>
                  <a:pt x="11807" y="14610"/>
                </a:cubicBezTo>
                <a:cubicBezTo>
                  <a:pt x="11807" y="14602"/>
                  <a:pt x="11807" y="14593"/>
                  <a:pt x="11807" y="14585"/>
                </a:cubicBezTo>
                <a:cubicBezTo>
                  <a:pt x="11996" y="14585"/>
                  <a:pt x="12190" y="14575"/>
                  <a:pt x="12378" y="14560"/>
                </a:cubicBezTo>
                <a:cubicBezTo>
                  <a:pt x="12644" y="14538"/>
                  <a:pt x="12910" y="14469"/>
                  <a:pt x="13171" y="14436"/>
                </a:cubicBezTo>
                <a:cubicBezTo>
                  <a:pt x="13196" y="14436"/>
                  <a:pt x="13204" y="14436"/>
                  <a:pt x="13221" y="14436"/>
                </a:cubicBezTo>
              </a:path>
              <a:path w="2234" h="3424">
                <a:moveTo>
                  <a:pt x="12378" y="14957"/>
                </a:moveTo>
                <a:cubicBezTo>
                  <a:pt x="12378" y="14997"/>
                  <a:pt x="12373" y="14892"/>
                  <a:pt x="12427" y="14858"/>
                </a:cubicBezTo>
                <a:cubicBezTo>
                  <a:pt x="12452" y="14850"/>
                  <a:pt x="12477" y="14841"/>
                  <a:pt x="12502" y="14833"/>
                </a:cubicBezTo>
                <a:cubicBezTo>
                  <a:pt x="12601" y="15035"/>
                  <a:pt x="12513" y="15209"/>
                  <a:pt x="12328" y="15354"/>
                </a:cubicBezTo>
                <a:cubicBezTo>
                  <a:pt x="12207" y="15415"/>
                  <a:pt x="12188" y="15440"/>
                  <a:pt x="12105" y="15429"/>
                </a:cubicBezTo>
                <a:cubicBezTo>
                  <a:pt x="12117" y="15321"/>
                  <a:pt x="12139" y="15244"/>
                  <a:pt x="12278" y="15280"/>
                </a:cubicBezTo>
                <a:cubicBezTo>
                  <a:pt x="12422" y="15318"/>
                  <a:pt x="12377" y="15416"/>
                  <a:pt x="12452" y="15478"/>
                </a:cubicBezTo>
                <a:cubicBezTo>
                  <a:pt x="12460" y="15478"/>
                  <a:pt x="12469" y="15478"/>
                  <a:pt x="12477" y="15478"/>
                </a:cubicBezTo>
              </a:path>
              <a:path w="2234" h="3424">
                <a:moveTo>
                  <a:pt x="13072" y="14784"/>
                </a:moveTo>
                <a:cubicBezTo>
                  <a:pt x="12972" y="14784"/>
                  <a:pt x="12849" y="14746"/>
                  <a:pt x="12824" y="14833"/>
                </a:cubicBezTo>
                <a:cubicBezTo>
                  <a:pt x="12806" y="14895"/>
                  <a:pt x="12799" y="14921"/>
                  <a:pt x="12799" y="14982"/>
                </a:cubicBezTo>
                <a:cubicBezTo>
                  <a:pt x="12865" y="14953"/>
                  <a:pt x="13005" y="14864"/>
                  <a:pt x="13072" y="14932"/>
                </a:cubicBezTo>
                <a:cubicBezTo>
                  <a:pt x="13192" y="15053"/>
                  <a:pt x="13057" y="15253"/>
                  <a:pt x="12948" y="15304"/>
                </a:cubicBezTo>
                <a:cubicBezTo>
                  <a:pt x="12855" y="15348"/>
                  <a:pt x="12850" y="15319"/>
                  <a:pt x="12774" y="15304"/>
                </a:cubicBezTo>
              </a:path>
              <a:path w="2234" h="3424">
                <a:moveTo>
                  <a:pt x="11137" y="14759"/>
                </a:moveTo>
                <a:cubicBezTo>
                  <a:pt x="11093" y="14825"/>
                  <a:pt x="11182" y="14723"/>
                  <a:pt x="11237" y="14709"/>
                </a:cubicBezTo>
                <a:cubicBezTo>
                  <a:pt x="11262" y="14709"/>
                  <a:pt x="11286" y="14709"/>
                  <a:pt x="11311" y="14709"/>
                </a:cubicBezTo>
                <a:cubicBezTo>
                  <a:pt x="11353" y="14807"/>
                  <a:pt x="11323" y="14902"/>
                  <a:pt x="11237" y="14982"/>
                </a:cubicBezTo>
                <a:cubicBezTo>
                  <a:pt x="11229" y="14982"/>
                  <a:pt x="11220" y="14982"/>
                  <a:pt x="11212" y="14982"/>
                </a:cubicBezTo>
                <a:cubicBezTo>
                  <a:pt x="11367" y="14982"/>
                  <a:pt x="11480" y="15077"/>
                  <a:pt x="11311" y="15230"/>
                </a:cubicBezTo>
                <a:cubicBezTo>
                  <a:pt x="11236" y="15298"/>
                  <a:pt x="11095" y="15304"/>
                  <a:pt x="11013" y="15255"/>
                </a:cubicBezTo>
                <a:cubicBezTo>
                  <a:pt x="11005" y="15247"/>
                  <a:pt x="10996" y="15238"/>
                  <a:pt x="10988" y="15230"/>
                </a:cubicBezTo>
              </a:path>
              <a:path w="2234" h="3424">
                <a:moveTo>
                  <a:pt x="13022" y="13767"/>
                </a:moveTo>
                <a:cubicBezTo>
                  <a:pt x="13002" y="13685"/>
                  <a:pt x="12894" y="13708"/>
                  <a:pt x="12824" y="13742"/>
                </a:cubicBezTo>
                <a:cubicBezTo>
                  <a:pt x="12734" y="13809"/>
                  <a:pt x="12707" y="13825"/>
                  <a:pt x="12675" y="13891"/>
                </a:cubicBezTo>
                <a:cubicBezTo>
                  <a:pt x="12729" y="13962"/>
                  <a:pt x="12986" y="14013"/>
                  <a:pt x="13022" y="14139"/>
                </a:cubicBezTo>
                <a:cubicBezTo>
                  <a:pt x="13055" y="14254"/>
                  <a:pt x="12942" y="14273"/>
                  <a:pt x="12874" y="14288"/>
                </a:cubicBezTo>
                <a:cubicBezTo>
                  <a:pt x="12848" y="14090"/>
                  <a:pt x="12927" y="13997"/>
                  <a:pt x="12998" y="13816"/>
                </a:cubicBezTo>
                <a:cubicBezTo>
                  <a:pt x="12998" y="13808"/>
                  <a:pt x="12998" y="13799"/>
                  <a:pt x="12998" y="13791"/>
                </a:cubicBezTo>
              </a:path>
              <a:path w="2234" h="3424">
                <a:moveTo>
                  <a:pt x="12278" y="15652"/>
                </a:moveTo>
                <a:cubicBezTo>
                  <a:pt x="12270" y="15652"/>
                  <a:pt x="12262" y="15652"/>
                  <a:pt x="12254" y="15652"/>
                </a:cubicBezTo>
                <a:cubicBezTo>
                  <a:pt x="12254" y="15630"/>
                  <a:pt x="12248" y="15651"/>
                  <a:pt x="12278" y="15627"/>
                </a:cubicBezTo>
                <a:cubicBezTo>
                  <a:pt x="12432" y="15501"/>
                  <a:pt x="12544" y="15669"/>
                  <a:pt x="12477" y="15825"/>
                </a:cubicBezTo>
                <a:cubicBezTo>
                  <a:pt x="12399" y="16007"/>
                  <a:pt x="12319" y="16004"/>
                  <a:pt x="12154" y="16024"/>
                </a:cubicBezTo>
                <a:cubicBezTo>
                  <a:pt x="12140" y="15911"/>
                  <a:pt x="12100" y="15850"/>
                  <a:pt x="12278" y="15850"/>
                </a:cubicBezTo>
                <a:cubicBezTo>
                  <a:pt x="12378" y="15850"/>
                  <a:pt x="12458" y="15907"/>
                  <a:pt x="12477" y="15999"/>
                </a:cubicBezTo>
              </a:path>
              <a:path w="2234" h="3424">
                <a:moveTo>
                  <a:pt x="12874" y="15528"/>
                </a:moveTo>
                <a:cubicBezTo>
                  <a:pt x="12897" y="15599"/>
                  <a:pt x="12898" y="15649"/>
                  <a:pt x="12898" y="15726"/>
                </a:cubicBezTo>
                <a:cubicBezTo>
                  <a:pt x="13014" y="15719"/>
                  <a:pt x="13054" y="15717"/>
                  <a:pt x="13146" y="15652"/>
                </a:cubicBezTo>
              </a:path>
              <a:path w="2234" h="3424">
                <a:moveTo>
                  <a:pt x="13122" y="15379"/>
                </a:moveTo>
                <a:cubicBezTo>
                  <a:pt x="13082" y="15567"/>
                  <a:pt x="13050" y="15760"/>
                  <a:pt x="13022" y="15949"/>
                </a:cubicBezTo>
              </a:path>
              <a:path w="2234" h="3424">
                <a:moveTo>
                  <a:pt x="11609" y="15900"/>
                </a:moveTo>
                <a:cubicBezTo>
                  <a:pt x="11693" y="15891"/>
                  <a:pt x="11772" y="15862"/>
                  <a:pt x="11857" y="15850"/>
                </a:cubicBezTo>
              </a:path>
              <a:path w="2234" h="3424">
                <a:moveTo>
                  <a:pt x="11906" y="16173"/>
                </a:moveTo>
                <a:cubicBezTo>
                  <a:pt x="12090" y="16198"/>
                  <a:pt x="12289" y="16186"/>
                  <a:pt x="12477" y="16173"/>
                </a:cubicBezTo>
                <a:cubicBezTo>
                  <a:pt x="12669" y="16160"/>
                  <a:pt x="12854" y="16123"/>
                  <a:pt x="13047" y="16123"/>
                </a:cubicBezTo>
                <a:cubicBezTo>
                  <a:pt x="13072" y="16123"/>
                  <a:pt x="13080" y="16123"/>
                  <a:pt x="13097" y="16123"/>
                </a:cubicBezTo>
              </a:path>
              <a:path w="2234" h="3424">
                <a:moveTo>
                  <a:pt x="12998" y="16545"/>
                </a:moveTo>
                <a:cubicBezTo>
                  <a:pt x="12943" y="16600"/>
                  <a:pt x="12964" y="16861"/>
                  <a:pt x="12948" y="16966"/>
                </a:cubicBezTo>
                <a:cubicBezTo>
                  <a:pt x="12936" y="17045"/>
                  <a:pt x="12923" y="17074"/>
                  <a:pt x="12923" y="1714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39000" y="3697200"/>
            <a:ext cx="911160" cy="768600"/>
          </a:xfrm>
          <a:custGeom>
            <a:avLst/>
            <a:gdLst/>
            <a:ahLst/>
            <a:rect l="l" t="t" r="r" b="b"/>
            <a:pathLst>
              <a:path w="2531" h="2134">
                <a:moveTo>
                  <a:pt x="20811" y="11485"/>
                </a:moveTo>
                <a:cubicBezTo>
                  <a:pt x="20644" y="11532"/>
                  <a:pt x="20579" y="11677"/>
                  <a:pt x="20513" y="11832"/>
                </a:cubicBezTo>
                <a:cubicBezTo>
                  <a:pt x="20469" y="11966"/>
                  <a:pt x="20446" y="12002"/>
                  <a:pt x="20513" y="12080"/>
                </a:cubicBezTo>
                <a:cubicBezTo>
                  <a:pt x="20731" y="12055"/>
                  <a:pt x="20979" y="12017"/>
                  <a:pt x="21084" y="11782"/>
                </a:cubicBezTo>
                <a:cubicBezTo>
                  <a:pt x="21158" y="11617"/>
                  <a:pt x="21084" y="11443"/>
                  <a:pt x="20935" y="11361"/>
                </a:cubicBezTo>
                <a:cubicBezTo>
                  <a:pt x="20848" y="11313"/>
                  <a:pt x="20849" y="11332"/>
                  <a:pt x="20786" y="11385"/>
                </a:cubicBezTo>
              </a:path>
              <a:path w="2531" h="2134">
                <a:moveTo>
                  <a:pt x="20117" y="12402"/>
                </a:moveTo>
                <a:cubicBezTo>
                  <a:pt x="20117" y="12144"/>
                  <a:pt x="20116" y="11890"/>
                  <a:pt x="20141" y="11633"/>
                </a:cubicBezTo>
                <a:cubicBezTo>
                  <a:pt x="20156" y="11473"/>
                  <a:pt x="20150" y="11345"/>
                  <a:pt x="20141" y="11187"/>
                </a:cubicBezTo>
                <a:cubicBezTo>
                  <a:pt x="20420" y="11205"/>
                  <a:pt x="20679" y="11173"/>
                  <a:pt x="20960" y="11162"/>
                </a:cubicBezTo>
                <a:cubicBezTo>
                  <a:pt x="21197" y="11153"/>
                  <a:pt x="21547" y="11067"/>
                  <a:pt x="21779" y="11112"/>
                </a:cubicBezTo>
                <a:cubicBezTo>
                  <a:pt x="21787" y="11120"/>
                  <a:pt x="21795" y="11129"/>
                  <a:pt x="21803" y="11137"/>
                </a:cubicBezTo>
              </a:path>
              <a:path w="2531" h="2134">
                <a:moveTo>
                  <a:pt x="19695" y="11733"/>
                </a:moveTo>
                <a:cubicBezTo>
                  <a:pt x="19707" y="11697"/>
                  <a:pt x="19734" y="11674"/>
                  <a:pt x="19720" y="11609"/>
                </a:cubicBezTo>
                <a:cubicBezTo>
                  <a:pt x="19698" y="11542"/>
                  <a:pt x="19693" y="11524"/>
                  <a:pt x="19670" y="11485"/>
                </a:cubicBezTo>
                <a:cubicBezTo>
                  <a:pt x="19498" y="11474"/>
                  <a:pt x="19375" y="11525"/>
                  <a:pt x="19298" y="11708"/>
                </a:cubicBezTo>
                <a:cubicBezTo>
                  <a:pt x="19290" y="11749"/>
                  <a:pt x="19281" y="11791"/>
                  <a:pt x="19273" y="11832"/>
                </a:cubicBezTo>
                <a:cubicBezTo>
                  <a:pt x="19464" y="11901"/>
                  <a:pt x="19518" y="11861"/>
                  <a:pt x="19645" y="11708"/>
                </a:cubicBezTo>
                <a:cubicBezTo>
                  <a:pt x="19721" y="11617"/>
                  <a:pt x="19734" y="11572"/>
                  <a:pt x="19745" y="11460"/>
                </a:cubicBezTo>
                <a:cubicBezTo>
                  <a:pt x="19725" y="11657"/>
                  <a:pt x="19716" y="11859"/>
                  <a:pt x="19695" y="12055"/>
                </a:cubicBezTo>
                <a:cubicBezTo>
                  <a:pt x="19675" y="12154"/>
                  <a:pt x="19667" y="12170"/>
                  <a:pt x="19670" y="12229"/>
                </a:cubicBezTo>
              </a:path>
              <a:path w="2531" h="2134">
                <a:moveTo>
                  <a:pt x="20935" y="10294"/>
                </a:moveTo>
                <a:cubicBezTo>
                  <a:pt x="20896" y="10304"/>
                  <a:pt x="20822" y="10327"/>
                  <a:pt x="20786" y="10344"/>
                </a:cubicBezTo>
                <a:cubicBezTo>
                  <a:pt x="20591" y="10436"/>
                  <a:pt x="20622" y="10642"/>
                  <a:pt x="20638" y="10815"/>
                </a:cubicBezTo>
                <a:cubicBezTo>
                  <a:pt x="20893" y="10922"/>
                  <a:pt x="21100" y="10812"/>
                  <a:pt x="21208" y="10517"/>
                </a:cubicBezTo>
                <a:cubicBezTo>
                  <a:pt x="21260" y="10376"/>
                  <a:pt x="21139" y="10208"/>
                  <a:pt x="20985" y="10269"/>
                </a:cubicBezTo>
                <a:cubicBezTo>
                  <a:pt x="20968" y="10286"/>
                  <a:pt x="20952" y="10302"/>
                  <a:pt x="20935" y="1031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72240" y="5027760"/>
            <a:ext cx="1197000" cy="660240"/>
          </a:xfrm>
          <a:custGeom>
            <a:avLst/>
            <a:gdLst/>
            <a:ahLst/>
            <a:rect l="l" t="t" r="r" b="b"/>
            <a:pathLst>
              <a:path w="3325" h="1837">
                <a:moveTo>
                  <a:pt x="22275" y="15056"/>
                </a:moveTo>
                <a:cubicBezTo>
                  <a:pt x="22399" y="15056"/>
                  <a:pt x="22509" y="15005"/>
                  <a:pt x="22622" y="14957"/>
                </a:cubicBezTo>
                <a:cubicBezTo>
                  <a:pt x="22662" y="14937"/>
                  <a:pt x="22668" y="14928"/>
                  <a:pt x="22696" y="14932"/>
                </a:cubicBezTo>
              </a:path>
              <a:path w="3325" h="1837">
                <a:moveTo>
                  <a:pt x="23068" y="14635"/>
                </a:moveTo>
                <a:cubicBezTo>
                  <a:pt x="23045" y="14730"/>
                  <a:pt x="23039" y="14759"/>
                  <a:pt x="22994" y="14808"/>
                </a:cubicBezTo>
                <a:cubicBezTo>
                  <a:pt x="23077" y="14808"/>
                  <a:pt x="23326" y="14778"/>
                  <a:pt x="23341" y="14908"/>
                </a:cubicBezTo>
                <a:cubicBezTo>
                  <a:pt x="23368" y="15146"/>
                  <a:pt x="23144" y="15281"/>
                  <a:pt x="23019" y="15156"/>
                </a:cubicBezTo>
              </a:path>
              <a:path w="3325" h="1837">
                <a:moveTo>
                  <a:pt x="23192" y="14635"/>
                </a:moveTo>
                <a:cubicBezTo>
                  <a:pt x="23327" y="14573"/>
                  <a:pt x="23446" y="14526"/>
                  <a:pt x="23589" y="14486"/>
                </a:cubicBezTo>
              </a:path>
              <a:path w="3325" h="1837">
                <a:moveTo>
                  <a:pt x="23688" y="14412"/>
                </a:moveTo>
                <a:cubicBezTo>
                  <a:pt x="23708" y="14512"/>
                  <a:pt x="23713" y="14605"/>
                  <a:pt x="23713" y="14709"/>
                </a:cubicBezTo>
                <a:cubicBezTo>
                  <a:pt x="23832" y="14743"/>
                  <a:pt x="23847" y="14688"/>
                  <a:pt x="23961" y="14610"/>
                </a:cubicBezTo>
              </a:path>
              <a:path w="3325" h="1837">
                <a:moveTo>
                  <a:pt x="24110" y="14188"/>
                </a:moveTo>
                <a:cubicBezTo>
                  <a:pt x="24020" y="14386"/>
                  <a:pt x="23963" y="14661"/>
                  <a:pt x="23937" y="14883"/>
                </a:cubicBezTo>
                <a:cubicBezTo>
                  <a:pt x="23931" y="14936"/>
                  <a:pt x="23953" y="15123"/>
                  <a:pt x="23937" y="15131"/>
                </a:cubicBezTo>
              </a:path>
              <a:path w="3325" h="1837">
                <a:moveTo>
                  <a:pt x="22027" y="15801"/>
                </a:moveTo>
                <a:cubicBezTo>
                  <a:pt x="22082" y="15551"/>
                  <a:pt x="22059" y="15378"/>
                  <a:pt x="22027" y="15106"/>
                </a:cubicBezTo>
                <a:cubicBezTo>
                  <a:pt x="22011" y="14968"/>
                  <a:pt x="21968" y="14815"/>
                  <a:pt x="21952" y="14709"/>
                </a:cubicBezTo>
                <a:cubicBezTo>
                  <a:pt x="22288" y="14518"/>
                  <a:pt x="22670" y="14396"/>
                  <a:pt x="23044" y="14288"/>
                </a:cubicBezTo>
                <a:cubicBezTo>
                  <a:pt x="23477" y="14163"/>
                  <a:pt x="23918" y="14063"/>
                  <a:pt x="24358" y="13965"/>
                </a:cubicBezTo>
              </a:path>
              <a:path w="3325" h="1837">
                <a:moveTo>
                  <a:pt x="21034" y="15453"/>
                </a:moveTo>
                <a:cubicBezTo>
                  <a:pt x="21125" y="15414"/>
                  <a:pt x="21185" y="15389"/>
                  <a:pt x="21282" y="15379"/>
                </a:cubicBezTo>
              </a:path>
              <a:path w="3325" h="1837">
                <a:moveTo>
                  <a:pt x="21729" y="15056"/>
                </a:moveTo>
                <a:cubicBezTo>
                  <a:pt x="21764" y="14965"/>
                  <a:pt x="21721" y="14815"/>
                  <a:pt x="21580" y="14883"/>
                </a:cubicBezTo>
                <a:cubicBezTo>
                  <a:pt x="21477" y="14986"/>
                  <a:pt x="21442" y="15024"/>
                  <a:pt x="21431" y="15131"/>
                </a:cubicBezTo>
                <a:cubicBezTo>
                  <a:pt x="21431" y="15205"/>
                  <a:pt x="21406" y="15238"/>
                  <a:pt x="21456" y="15230"/>
                </a:cubicBezTo>
                <a:cubicBezTo>
                  <a:pt x="21545" y="15124"/>
                  <a:pt x="21611" y="15033"/>
                  <a:pt x="21679" y="14908"/>
                </a:cubicBezTo>
                <a:cubicBezTo>
                  <a:pt x="21722" y="15144"/>
                  <a:pt x="21710" y="15395"/>
                  <a:pt x="21754" y="15627"/>
                </a:cubicBezTo>
                <a:cubicBezTo>
                  <a:pt x="21762" y="15635"/>
                  <a:pt x="21771" y="15644"/>
                  <a:pt x="21779" y="1565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46640" y="633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575" y="17587"/>
                </a:moveTo>
                <a:lnTo>
                  <a:pt x="9575" y="17587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0" y="4724280"/>
            <a:ext cx="527040" cy="446040"/>
          </a:xfrm>
          <a:custGeom>
            <a:avLst/>
            <a:gdLst/>
            <a:ahLst/>
            <a:rect l="l" t="t" r="r" b="b"/>
            <a:pathLst>
              <a:path w="1465" h="1241">
                <a:moveTo>
                  <a:pt x="23788" y="13419"/>
                </a:moveTo>
                <a:cubicBezTo>
                  <a:pt x="23758" y="13508"/>
                  <a:pt x="23636" y="13682"/>
                  <a:pt x="23589" y="13791"/>
                </a:cubicBezTo>
                <a:cubicBezTo>
                  <a:pt x="23501" y="13997"/>
                  <a:pt x="23564" y="14107"/>
                  <a:pt x="23788" y="14015"/>
                </a:cubicBezTo>
                <a:cubicBezTo>
                  <a:pt x="23918" y="13962"/>
                  <a:pt x="23916" y="13914"/>
                  <a:pt x="23986" y="13816"/>
                </a:cubicBezTo>
                <a:cubicBezTo>
                  <a:pt x="23925" y="13779"/>
                  <a:pt x="23861" y="13770"/>
                  <a:pt x="23812" y="13841"/>
                </a:cubicBezTo>
                <a:cubicBezTo>
                  <a:pt x="23760" y="13916"/>
                  <a:pt x="23718" y="13990"/>
                  <a:pt x="23763" y="14064"/>
                </a:cubicBezTo>
              </a:path>
              <a:path w="1465" h="1241">
                <a:moveTo>
                  <a:pt x="23143" y="13990"/>
                </a:moveTo>
                <a:cubicBezTo>
                  <a:pt x="23242" y="14001"/>
                  <a:pt x="23258" y="14025"/>
                  <a:pt x="23341" y="14089"/>
                </a:cubicBezTo>
                <a:cubicBezTo>
                  <a:pt x="23487" y="14203"/>
                  <a:pt x="23565" y="14253"/>
                  <a:pt x="23738" y="14312"/>
                </a:cubicBezTo>
                <a:cubicBezTo>
                  <a:pt x="23876" y="14359"/>
                  <a:pt x="23978" y="14366"/>
                  <a:pt x="24110" y="14288"/>
                </a:cubicBezTo>
                <a:cubicBezTo>
                  <a:pt x="24147" y="14266"/>
                  <a:pt x="24279" y="14148"/>
                  <a:pt x="24309" y="14114"/>
                </a:cubicBezTo>
                <a:cubicBezTo>
                  <a:pt x="24401" y="14010"/>
                  <a:pt x="24448" y="13881"/>
                  <a:pt x="24433" y="13742"/>
                </a:cubicBezTo>
                <a:cubicBezTo>
                  <a:pt x="24415" y="13579"/>
                  <a:pt x="24344" y="13484"/>
                  <a:pt x="24234" y="13370"/>
                </a:cubicBezTo>
                <a:cubicBezTo>
                  <a:pt x="24151" y="13284"/>
                  <a:pt x="24039" y="13144"/>
                  <a:pt x="23912" y="13122"/>
                </a:cubicBezTo>
                <a:cubicBezTo>
                  <a:pt x="23775" y="13098"/>
                  <a:pt x="23547" y="13114"/>
                  <a:pt x="23416" y="13171"/>
                </a:cubicBezTo>
                <a:cubicBezTo>
                  <a:pt x="23247" y="13245"/>
                  <a:pt x="23020" y="13379"/>
                  <a:pt x="22969" y="13568"/>
                </a:cubicBezTo>
                <a:cubicBezTo>
                  <a:pt x="22903" y="13812"/>
                  <a:pt x="23080" y="13956"/>
                  <a:pt x="23242" y="1408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82000" y="5429160"/>
            <a:ext cx="625320" cy="544680"/>
          </a:xfrm>
          <a:custGeom>
            <a:avLst/>
            <a:gdLst/>
            <a:ahLst/>
            <a:rect l="l" t="t" r="r" b="b"/>
            <a:pathLst>
              <a:path w="1738" h="1514">
                <a:moveTo>
                  <a:pt x="23267" y="15404"/>
                </a:moveTo>
                <a:cubicBezTo>
                  <a:pt x="23185" y="15404"/>
                  <a:pt x="23052" y="15379"/>
                  <a:pt x="22994" y="15453"/>
                </a:cubicBezTo>
                <a:cubicBezTo>
                  <a:pt x="22977" y="15475"/>
                  <a:pt x="22974" y="15664"/>
                  <a:pt x="22969" y="15701"/>
                </a:cubicBezTo>
                <a:cubicBezTo>
                  <a:pt x="23113" y="15660"/>
                  <a:pt x="23206" y="15578"/>
                  <a:pt x="23366" y="15627"/>
                </a:cubicBezTo>
                <a:cubicBezTo>
                  <a:pt x="23598" y="15699"/>
                  <a:pt x="23390" y="15928"/>
                  <a:pt x="23267" y="15974"/>
                </a:cubicBezTo>
                <a:cubicBezTo>
                  <a:pt x="23144" y="15995"/>
                  <a:pt x="23114" y="16022"/>
                  <a:pt x="23068" y="15949"/>
                </a:cubicBezTo>
              </a:path>
              <a:path w="1738" h="1514">
                <a:moveTo>
                  <a:pt x="23912" y="15404"/>
                </a:moveTo>
                <a:cubicBezTo>
                  <a:pt x="23887" y="15354"/>
                  <a:pt x="23835" y="15491"/>
                  <a:pt x="23837" y="15528"/>
                </a:cubicBezTo>
                <a:cubicBezTo>
                  <a:pt x="23843" y="15640"/>
                  <a:pt x="24029" y="15541"/>
                  <a:pt x="24085" y="15528"/>
                </a:cubicBezTo>
              </a:path>
              <a:path w="1738" h="1514">
                <a:moveTo>
                  <a:pt x="24036" y="15081"/>
                </a:moveTo>
                <a:cubicBezTo>
                  <a:pt x="24052" y="15300"/>
                  <a:pt x="24002" y="15532"/>
                  <a:pt x="24036" y="15751"/>
                </a:cubicBezTo>
                <a:cubicBezTo>
                  <a:pt x="24044" y="15768"/>
                  <a:pt x="24053" y="15784"/>
                  <a:pt x="24061" y="15801"/>
                </a:cubicBezTo>
              </a:path>
              <a:path w="1738" h="1514">
                <a:moveTo>
                  <a:pt x="22448" y="16173"/>
                </a:moveTo>
                <a:cubicBezTo>
                  <a:pt x="22653" y="16066"/>
                  <a:pt x="22933" y="15980"/>
                  <a:pt x="23192" y="15949"/>
                </a:cubicBezTo>
                <a:cubicBezTo>
                  <a:pt x="23381" y="15926"/>
                  <a:pt x="23935" y="15816"/>
                  <a:pt x="24135" y="15900"/>
                </a:cubicBezTo>
                <a:cubicBezTo>
                  <a:pt x="24135" y="15908"/>
                  <a:pt x="24135" y="15917"/>
                  <a:pt x="24135" y="15925"/>
                </a:cubicBezTo>
              </a:path>
              <a:path w="1738" h="1514">
                <a:moveTo>
                  <a:pt x="22647" y="15925"/>
                </a:moveTo>
                <a:cubicBezTo>
                  <a:pt x="22707" y="15915"/>
                  <a:pt x="22758" y="15905"/>
                  <a:pt x="22820" y="15900"/>
                </a:cubicBezTo>
              </a:path>
              <a:path w="1738" h="1514">
                <a:moveTo>
                  <a:pt x="23986" y="15925"/>
                </a:moveTo>
                <a:cubicBezTo>
                  <a:pt x="23986" y="16082"/>
                  <a:pt x="23912" y="16210"/>
                  <a:pt x="23912" y="16371"/>
                </a:cubicBezTo>
                <a:cubicBezTo>
                  <a:pt x="23935" y="16511"/>
                  <a:pt x="23936" y="16555"/>
                  <a:pt x="24036" y="16594"/>
                </a:cubicBezTo>
                <a:cubicBezTo>
                  <a:pt x="24164" y="16476"/>
                  <a:pt x="24288" y="16312"/>
                  <a:pt x="24110" y="16148"/>
                </a:cubicBezTo>
                <a:cubicBezTo>
                  <a:pt x="24004" y="16094"/>
                  <a:pt x="24001" y="16069"/>
                  <a:pt x="23937" y="1607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971800"/>
          <a:ext cx="70344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71800"/>
                    <a:ext cx="70344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572000"/>
          <a:ext cx="766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572000"/>
                    <a:ext cx="766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r>
              <a:rPr b="0" lang="en-US" sz="4400" spc="-1" strike="noStrike">
                <a:solidFill>
                  <a:srgbClr val="333399"/>
                </a:solidFill>
                <a:latin typeface="Kristen ITC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Kristen ITC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i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12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2514600"/>
          <a:ext cx="99072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990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90720" y="3505320"/>
          <a:ext cx="987480" cy="101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05320"/>
                    <a:ext cx="98748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066680" y="4724280"/>
          <a:ext cx="657360" cy="127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724280"/>
                    <a:ext cx="65736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410080" y="2514600"/>
          <a:ext cx="85248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2514600"/>
                    <a:ext cx="8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4120" y="4191120"/>
          <a:ext cx="90144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191120"/>
                    <a:ext cx="901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page 75   2-14 e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age 76  20-3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8:16:41Z</dcterms:created>
  <dc:creator>ccps</dc:creator>
  <dc:description/>
  <dc:language>en-US</dc:language>
  <cp:lastModifiedBy>deanne elizabeth mcgrath</cp:lastModifiedBy>
  <dcterms:modified xsi:type="dcterms:W3CDTF">2011-01-13T18:45:40Z</dcterms:modified>
  <cp:revision>11</cp:revision>
  <dc:subject/>
  <dc:title>Obj 2.5:  To divide Integers.</dc:title>
</cp:coreProperties>
</file>